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DB47-A30F-4EFA-861F-5B2C63BE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0C3A-183E-4C60-9892-24F2ABBC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A885F-B682-46D3-A4C0-5874E76D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E1EF3-BC1B-48F8-964F-9E737C24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207AF-3CFB-4C77-9BEA-29760435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2850C-7151-487F-A545-5B23C792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0DA62-DDD0-4195-85DA-C5A9D750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99EA0-F3F3-4DE2-BA27-AC159CF1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5E443-4998-4BDD-B797-9CBF212F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0D73C-98B5-4117-9CC7-B54960F1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29E00-F725-45EE-9E6D-55FEB493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B9DBA-BC10-4E6F-8367-B28BA3B7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ECF9-50F4-470C-920E-DEFBECD4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2CF7C-68E3-4B25-96D9-9E8AF75C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26160-6A9E-4D97-860C-E606A938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EA73B-5987-448D-8017-A2D7D759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9E47C-EC2D-41D4-A4D2-F328C9B1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F1588-F333-484D-B18E-75318065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BCED3-C496-4B25-9887-C9B811F8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5155D-DDAB-4346-9BF6-0D04D3A2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C63B5-BCBC-4010-9995-9BD5330E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5D346-E292-411A-8955-8B06D4F1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D48D6-3301-476D-BF5E-9909DB75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1300-C893-4955-B563-3FAB731A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CAD66-B808-43CB-A2CF-728F0D4F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12F8-7FE5-4C1E-A274-3F8B1D8BF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807A-DC68-4953-B2BA-5285AF05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5428-03D9-450A-92CF-DA205D50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6DF9-B5FB-4587-A9F0-07D8F63D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B980-4CB0-408C-89E0-0066CA69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8C6A-36D5-44D8-9A1D-D4398CE0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0611-5D5E-44ED-AC4B-8CB63C67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463C-EB5B-4212-8F9B-5F061486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9BEA-403A-4BD3-9BDB-05D11FB5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8C63-0656-4885-9F6B-9DF4AEE3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8E5D-61E9-4473-9DC4-D11E32DF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B932-A440-4FC0-99A4-226B42B8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0701-9FAF-4C92-8E1F-4AD56055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20400-1E93-4819-90BA-C72AF590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8890B-2C2A-4EF8-A0FE-B8B7E1FC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E403A-C350-480D-897E-CFE204C4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B2A67-706D-4C4A-962A-62BD60D1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F3524-3D08-45F7-A2FB-21702D73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FA29-874F-4C76-87F9-2C317319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ED780-57B9-49BB-8AAD-3586017D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0874E-266F-4186-A977-628DE4DF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7B74D-8F4F-4988-B477-D6CE785D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C1530-D9DB-4764-BAA8-9FFE6DF7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8FAF6-1879-4687-A371-2D4E53D8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E1A50-821E-4F75-8335-3C012763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3515F-65A9-4C28-8126-60A429B5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75108-FB69-485C-B8B2-02D091BC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A9EF5-2BC6-4B7D-B09F-2D90133D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ED220-AB5B-4DE4-BE32-6C825E30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E091-D9CA-4B6B-A953-CA556532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B7081-7CDC-4606-9CE9-13D22604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790C3-8FF5-48DB-B561-2E2BA7CF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B9902-8544-4755-A6CD-B7DED773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3CB4A-8DE1-4E76-AD7A-E99B097C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7DA4A-54E0-45D6-98A3-F1691533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09EE4-C1A1-4354-BA19-BA90DEAF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DD9F8-9AF6-4B1F-94AF-D2C8244C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675AC-2A9A-4920-ACC0-0B9EFE9A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D1826-AC5D-4833-80E5-52FD3FFF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D2E29-22B7-4154-8AF4-C0970444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2179-1C86-4319-90C3-D97E969C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594C1-424B-4F4D-94D3-A5C7D2AC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A07D2-077B-45ED-84BF-F4AF0BE9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0B2C9-CFB7-4BD3-B868-BFBF9ABF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9E794-0305-4CA3-A9AC-B29BFD9D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EEFFB-A5EA-461C-9F9D-582EE83E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FB94B-A5D7-4FAB-B1B1-6FD25526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F86BA-3978-4A8B-8C7B-6308D6C4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7E64D-D458-4234-874C-D2375FF1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D75E4-00D0-41A5-8482-154D95E5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A4FB1-EF90-4EE8-A135-08F9513B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7342-73C3-40D7-AF57-83DDD088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B3968-49F1-420D-BE75-FC7AD06B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984F8-51D2-4329-9C27-32BF5C1F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E98CF-A22E-4AA6-960B-F61165D5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BF22E-DAC7-4472-B94A-1FCEEA08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E5C19-B3C5-4E78-8565-79852BFE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0A306-CA9A-484E-A426-6C69648C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7B128-9E78-465E-9903-0181608A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36A21-9180-4456-A6A0-D3DCE9F7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7A876-8AF4-4157-9755-0B231B49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E7FD4-134B-4D28-906F-8EA5D605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3A55-0523-4645-8788-AA7307BF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027EA-A84B-4A3D-B167-BFBC99AF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9FAA7-9F2F-4F09-B65B-1490938E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2C1EA-0E9B-406A-8D81-BBC923252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6AD9D-B75E-4AB2-B792-851168D8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90CD3-6ABD-4DAA-9C53-3C47D59F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81F38-DCF2-4484-9468-D102B3E4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582D3-0068-4ADB-8BA3-C7BD43B1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4ED0C-81C8-4EF6-A8DD-017F1F7C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9A951-3F23-44B7-9612-C8CEED18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FE7AA-3483-46AE-80AA-6E221150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4BBB-1AAD-42A2-B0CE-3B519AA7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7C9D8-65AE-4E84-9BA4-4E6707C1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F3A44-E35E-47E6-A55E-766BC541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0B547-EACC-4891-83C5-3151F662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A828F-CEAA-4CCA-9D98-874A53B9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AAA59-4546-4384-BF7A-C72E44C8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D1814-5C48-4944-A74A-E5122C14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D89EE-A4EF-44CB-86B6-2C3078AF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C1215-3ABB-4034-BD72-BD651C2B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42B32-B8FB-4FB5-AFF7-65091884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FE4EF-C82E-4D3B-88DC-9802B2CA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8983-0173-426F-8BB2-70D80301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B3B35-C99E-4372-BC45-412D8992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D9E69-3D80-4A38-A5E8-7AB45715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60900-7E0E-4A95-94DE-18473ABC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54B87-BC35-4056-988F-046C3C71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0D64D-F8C3-4661-A66D-35650264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A13FC-E831-4F30-A9EB-BDE2C3F5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60D6A-A7FD-4487-871A-65B7F6AE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999C4-3C9A-47EC-AB3C-B2B838E1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C5FC6-D6E5-4D28-8F17-9DE2B46B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980FD-FC3F-493A-80BA-A0DEAE3E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DE07-09EC-402E-8FC5-4D46192AFD3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2DD1-0560-41DB-B521-B0A1C903D57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BB6D-6A9F-452F-9564-8A414087AF5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7798-9FDA-4A6F-A367-1E666DDA7C4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0F2D-C231-4D72-8902-E451AC7CB7D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2556-8060-41DF-8885-273ADD75EC8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894A-02A3-4C2A-B24C-457CAB4CF6C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1850-18C8-408B-8F90-15119732B43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7AD4-4713-41ED-8526-C49A0813C19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75FB-9C22-40C2-944D-D4D47975F40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8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언제 한국에 오셨습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편지를 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음 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을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디음 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본에 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약속이 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언제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ㅂ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봤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난 주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서울에 왔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6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했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작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9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문을 읽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청소를 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에서 무엇을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누구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          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십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를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서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장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항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방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우안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언제 한국에 오셨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야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4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23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일에 왔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우안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한국에서 무엇을 하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회사에서 일합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오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mon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ay (date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회사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일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언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en; interogative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언제 왔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언제가 좋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생일이 언제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었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; suffix (ending) to make it p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보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보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았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먹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먹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었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였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오늘 아침에 병원에 갔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제 소설책을 읽었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작년에 해외 여행을 갔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숫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Figu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Sino Korean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1    2    3    4   5    6   7    8    9   10  100  1,000 10,000 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일 이 삼 사 오 육 칠 팔 구 십 백 천 만 억 조 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Original Korean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나 둘 셋 넷 다섯 여섯 일곱 여덟 아홉 열 스물 서른 마흔 쉬흔 예순 일흔 여든 아흔 백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일 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9/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3/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2/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6/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0/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오늘이 몇 월 며칠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일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7/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2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8/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1/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4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셨습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진을 찍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면을 잡수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전화를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1-26T01:14:27Z</dcterms:modified>
  <cp:revision>101</cp:revision>
  <dc:subject/>
  <dc:title>KOREAN LANGUAGE</dc:title>
</cp:coreProperties>
</file>